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973-F2FF-431E-A81D-48F1A4C2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4AE-76E0-4115-9D80-E18F3F5C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3E3-73C0-4F6F-84A8-F3BA9F9D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E8E-99F1-4FFA-9E47-A0C48247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875-681E-4C8E-8357-B6FD5749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F2B-D6B4-41D5-8728-81C29D6E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255-B290-4A7A-9CC3-4D9F7623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645-8E8A-4AEA-A4F4-FF6905D0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CC0-5265-48D2-AB94-ACFD8D83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6CC-8BDD-4714-8922-771BF21D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DD8-EE9F-43DD-910D-8138FA59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D19-30ED-477D-B6BA-40939037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CE9094-E765-4701-A85C-9F23DB5039B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Prueba del ejercicio práctico del módulo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7</Words>
  <Paragraphs>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2:44:08Z</dcterms:created>
  <dc:creator>L00507939</dc:creator>
  <dc:description/>
  <dc:language>en-US</dc:language>
  <cp:lastModifiedBy>L00507939</cp:lastModifiedBy>
  <dcterms:modified xsi:type="dcterms:W3CDTF">2008-07-28T02:44:24Z</dcterms:modified>
  <cp:revision>1</cp:revision>
  <dc:subject/>
  <dc:title>Prueba del ejercicio práctico del módulo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